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67064"/>
        <c:axId val="88091964"/>
      </c:barChart>
      <c:catAx>
        <c:axId val="29367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91964"/>
        <c:crosses val="autoZero"/>
        <c:auto val="1"/>
        <c:lblAlgn val="ctr"/>
        <c:lblOffset val="100"/>
        <c:noMultiLvlLbl val="0"/>
      </c:catAx>
      <c:valAx>
        <c:axId val="88091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67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B23-3360-4CF3-97E1-E955C41B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D31-FB40-4906-8B83-C83CEB48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7BA-E05F-4AE3-AC7F-28A15B32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583-DBEA-44E3-8CF5-12F1B8EB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2B0-6B79-4671-9A49-9C163A1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3C6-E4BC-438E-87C6-59B9008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78D-2B9F-48F5-9260-317EC0D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E40-0FF6-42A9-9CE1-95C3316D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9C1-22D4-4AEF-A8B7-A44C6047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EDF-1EB0-423A-B737-8E590336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749-321D-4CEA-B31C-F4DC64C7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104-361A-42DA-BC6B-0AAD777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80A09-41E3-447C-9EAE-0FDD37CD03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