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222097"/>
        <c:axId val="4899546"/>
      </c:barChart>
      <c:catAx>
        <c:axId val="462220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99546"/>
        <c:crosses val="autoZero"/>
        <c:auto val="1"/>
        <c:lblAlgn val="ctr"/>
        <c:lblOffset val="100"/>
        <c:noMultiLvlLbl val="0"/>
      </c:catAx>
      <c:valAx>
        <c:axId val="48995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2220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A325-DFB1-4CA7-A7C6-F041A5AB5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C4A7-7B7A-4B31-B8EB-B5278AB8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94E8-C18E-4E84-8583-88BC87863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A492-499C-4CFC-840F-068E892DB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D666-ED48-450E-B4E8-D28C1CE8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9A80-49F8-43AE-87BC-B7EBC0C2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0B8E-B208-4A1A-88B8-E3946854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22FF-E59B-492C-94A5-EE621830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6667-A7B9-4F5E-8A71-2BECF5FA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10F2-51AD-4D1E-B33C-E2704632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1F17-C9B2-4746-80D0-23A40C1C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CA7E-E767-4E7D-B530-0ADC28A0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53D7B-59CF-4208-8292-2FCD0EFE27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