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41980"/>
        <c:axId val="4767251"/>
      </c:barChart>
      <c:catAx>
        <c:axId val="36841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251"/>
        <c:crosses val="autoZero"/>
        <c:auto val="1"/>
        <c:lblAlgn val="ctr"/>
        <c:lblOffset val="100"/>
        <c:noMultiLvlLbl val="0"/>
      </c:catAx>
      <c:valAx>
        <c:axId val="4767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1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062-0A9F-4A70-8F69-F5B49D4C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0E7-DFCF-4EEA-AF07-3D14026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0F0-DC69-4711-BB62-604751A5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77E-C9E6-4214-A16D-7C74AA8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967-D414-4A6F-AE8A-447108E2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40E-36BD-4CF6-84A4-544E5B4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9A0-DC9E-44BC-B366-43DFFC7B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ED0-71F9-47C2-92DD-E4747B15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B94-EC0C-4349-9207-632E2D1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165-680F-4008-AFF8-A53E21E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18B-B220-4717-A3ED-C541D36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902-E283-4B94-8F9A-B09CFCC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8ED5-A825-4D4B-9036-0C0FD2B7DA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