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02675"/>
        <c:axId val="77166757"/>
      </c:barChart>
      <c:catAx>
        <c:axId val="55502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66757"/>
        <c:crosses val="autoZero"/>
        <c:auto val="1"/>
        <c:lblAlgn val="ctr"/>
        <c:lblOffset val="100"/>
        <c:noMultiLvlLbl val="0"/>
      </c:catAx>
      <c:valAx>
        <c:axId val="77166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02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07E-4B73-4BA8-98F2-54AEBBAC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95D-1E08-4652-8840-8CEF6C5A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5DF-0B48-40AD-82D8-D6A7FD54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79E-6EE0-46A9-8E2C-2C25FABF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7FE-B938-44FA-9F0F-C117D6B9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ADA-2BDA-4BFC-8BE7-9749016E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BA9-8B4D-43FE-A435-5045C9E7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B99-7645-40D8-A5AD-5AE63BDC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5EA-ADA9-4AC6-BB1D-2D5F1166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C65-BD80-432E-BBED-338B4570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615-1B14-45ED-9437-1D2A5A0A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FBA-A5C3-441F-8CEB-00EE385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AB1D7-DCE0-46A5-A8EE-167269A5BA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