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84096"/>
        <c:axId val="52240998"/>
      </c:barChart>
      <c:catAx>
        <c:axId val="37284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40998"/>
        <c:crosses val="autoZero"/>
        <c:auto val="1"/>
        <c:lblAlgn val="ctr"/>
        <c:lblOffset val="100"/>
        <c:noMultiLvlLbl val="0"/>
      </c:catAx>
      <c:valAx>
        <c:axId val="52240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84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BA4-A1E8-4047-A331-D125CC76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BD6-78CE-441C-B1D3-45C92753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6A6-1B20-4013-8F5A-E93C610A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DB2-E22D-4462-8BD3-60FFB481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736-736C-406C-998F-2D80CD45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005-769E-4CD5-AF56-5B8E2E93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0BF-35BA-418F-879F-6AB71E1A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644-21BA-4A3B-AEE1-68ED3776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3BD-EB81-4153-8D0D-8EFE862C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EFB-E8A4-4A64-AD71-EE5B55E6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DDF-BDAB-4412-8466-DA9F1A90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982-2131-4878-B634-5C4C22EC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498E3-7C84-4EB4-9C0B-9AD759668F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