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89672"/>
        <c:axId val="44026392"/>
      </c:barChart>
      <c:catAx>
        <c:axId val="92089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26392"/>
        <c:crosses val="autoZero"/>
        <c:auto val="1"/>
        <c:lblAlgn val="ctr"/>
        <c:lblOffset val="100"/>
        <c:noMultiLvlLbl val="0"/>
      </c:catAx>
      <c:valAx>
        <c:axId val="44026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89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A7B-AC45-401B-B90B-87FF72D8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854-6536-4C63-9355-35CEEA74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2D5-A0BD-4D7A-AFC1-91F85F37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4E7-557A-45A9-9E31-40EC4630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767-60EC-4D00-A5FE-EB3846C1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D9D-A56B-4C0D-99C3-A234F668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DF8-D2FA-4FA6-AD77-8DC6EAB8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102-72FA-48AB-A5C0-1DBB2471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024-DA62-41DD-98EC-548E7D89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210-0321-4937-A447-B183C09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38C-DB08-46A3-80D4-99F3052A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F85C-A819-4D1A-A408-72CF6223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0D7AF-6F3E-4A21-99CC-80FA9405B0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