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727742"/>
        <c:axId val="82454450"/>
      </c:barChart>
      <c:catAx>
        <c:axId val="797277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54450"/>
        <c:crosses val="autoZero"/>
        <c:auto val="1"/>
        <c:lblAlgn val="ctr"/>
        <c:lblOffset val="100"/>
        <c:noMultiLvlLbl val="0"/>
      </c:catAx>
      <c:valAx>
        <c:axId val="82454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277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D39-688D-4F0F-84FC-86EE2966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5CC6-7331-4A0A-9EA6-593C580C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7CC-0240-442C-8F7E-3A65CD89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5A5-8FC1-422E-BFE3-5D38C161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0AA-E868-4A28-AC18-7C73650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A3A-A43A-4544-AB86-27F5BF08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539-FAEF-4843-B6D6-BD64E66B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D8F-BB6C-4737-ABF3-CE6C8F77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587-8495-4C3E-AF6C-11D87B31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7C4-F487-4F9E-A3EB-2DBCAEDB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A5A-B89C-42CD-AF97-7D140AD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321-694C-4C4F-B4F7-CBB08EA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503A4-AE23-4A75-8432-C4B067C16F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