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8027"/>
        <c:axId val="83106470"/>
      </c:barChart>
      <c:catAx>
        <c:axId val="1828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6470"/>
        <c:crosses val="autoZero"/>
        <c:auto val="1"/>
        <c:lblAlgn val="ctr"/>
        <c:lblOffset val="100"/>
        <c:noMultiLvlLbl val="0"/>
      </c:catAx>
      <c:valAx>
        <c:axId val="83106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8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C6A-F8FC-47C9-B726-F4021807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252-B2C5-4016-A22E-3171D02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874-0C3B-4C45-AA53-A4B8CC32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F7D-181A-416C-8FC7-B4D9CA8D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72F-7A12-4F2C-829C-F760A21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394-25A9-4829-86E1-E28D7350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D76-8D3A-4A8E-BFB3-87655142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58D-66BB-47FA-9025-8F35BC87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D81-A3C7-4FAB-A3E9-41A7FCC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97C-14C9-4343-BD4A-242F7CB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1E3-4AEF-49DE-B2B3-F1EC66E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85C-A0F5-49FD-8DA4-6F71775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77DB2-2BB3-434B-9F87-4A079EDBC1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