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127430"/>
        <c:axId val="84467955"/>
      </c:barChart>
      <c:catAx>
        <c:axId val="751274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67955"/>
        <c:crosses val="autoZero"/>
        <c:auto val="1"/>
        <c:lblAlgn val="ctr"/>
        <c:lblOffset val="100"/>
        <c:noMultiLvlLbl val="0"/>
      </c:catAx>
      <c:valAx>
        <c:axId val="844679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274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82F8-B99D-4602-A698-4DD2C4857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61F4-AA87-448D-A901-53260874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3B7B-FFD9-4D65-A13D-2E3C6E9CD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AC71-C0AF-435F-AFF9-357E52852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A977-8363-4775-B9C2-91095FD6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BEBE-0540-449B-8962-284FD3DA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64D7-DF22-45A5-909C-0843C3EB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184B-BD12-4DA5-B6EE-A791DD26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3346-A1E3-4382-9895-35390123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0033-965D-49C5-8AB7-A7B1B8E2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4FE7-03DE-469D-B718-60515A5C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39CC-0CB8-4B96-AF7E-AF7B3B64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AD604-08A9-4BC3-B922-6C13AF3B7C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