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22490"/>
        <c:axId val="64752604"/>
      </c:barChart>
      <c:catAx>
        <c:axId val="87922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52604"/>
        <c:crosses val="autoZero"/>
        <c:auto val="1"/>
        <c:lblAlgn val="ctr"/>
        <c:lblOffset val="100"/>
        <c:noMultiLvlLbl val="0"/>
      </c:catAx>
      <c:valAx>
        <c:axId val="64752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22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933-8FAF-4DF5-A1CD-E411160A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230-00CD-4C06-9612-7BF94014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5B2-9CE1-4453-982B-FB536A13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F03-BE30-4EF8-BAA4-B2B861C3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5CE-C52B-4159-B98C-C51DCB1F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F89-3B2A-40C4-8ACD-77BD7B16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400-3AB0-4605-AF57-3442CF6D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30E-AA47-4A9C-B94F-085571D7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15C-4DFA-4BD2-A4E6-B5289D46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E56-D74A-4CDC-8F93-930362D1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FFA-3CE6-429D-B8B5-DFFF58A9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A27-CAF1-4780-957F-6A7A2924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197AB-24F3-4548-9ACD-0A9AB0E232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