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53732"/>
        <c:axId val="97232935"/>
      </c:barChart>
      <c:catAx>
        <c:axId val="123537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32935"/>
        <c:crosses val="autoZero"/>
        <c:auto val="1"/>
        <c:lblAlgn val="ctr"/>
        <c:lblOffset val="100"/>
        <c:noMultiLvlLbl val="0"/>
      </c:catAx>
      <c:valAx>
        <c:axId val="97232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537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06E-F03C-4B43-BCFB-ACC62A63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F34F-8F54-4B06-86BA-E8285581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D633-2AC2-4FD4-AC73-D0212D68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F92-A1BD-4F0E-AD3B-2D1F421F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281-3558-4A81-A540-AF448947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1637-9979-415C-B093-9862F5C5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6882-C560-4DF7-90F2-C64A1C27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8A9-8E64-46CB-89A6-2C98C791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182C-4F97-4256-AF59-E529CCE4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432-BCC1-497B-BF72-3932EEAC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52A-5A86-4829-A4BB-6B5C6BF3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0C70-AB04-4958-9C99-6AAFEF19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D0403-2E68-4BF5-8E40-2D8070ED4A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