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30534"/>
        <c:axId val="92757069"/>
      </c:barChart>
      <c:catAx>
        <c:axId val="73530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57069"/>
        <c:crosses val="autoZero"/>
        <c:auto val="1"/>
        <c:lblAlgn val="ctr"/>
        <c:lblOffset val="100"/>
        <c:noMultiLvlLbl val="0"/>
      </c:catAx>
      <c:valAx>
        <c:axId val="92757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0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A51-16D4-4BD6-8AB7-BC53D463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768-D27E-4164-B001-580E5526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3C2-F573-44CE-A84A-B1A0E2F0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A80-0047-4315-AB62-F8BF18DC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CA4-F210-4C68-8DBE-0023150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6D6-9C2D-4DE0-90B4-131070BE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80D-13B9-4CF1-9187-63A7AFD0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A47-9FFC-444F-A909-F82BFE0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71A-1014-4522-8F1A-5142EF7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600-BD92-46A2-9B8F-48A61B1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4EA-0DB8-4336-9ECC-5A41640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963-5103-4F7D-9845-3A267E8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64685-E65F-4E7C-A1A6-C24A703BB9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