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336836"/>
        <c:axId val="84617896"/>
      </c:barChart>
      <c:catAx>
        <c:axId val="533368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17896"/>
        <c:crosses val="autoZero"/>
        <c:auto val="1"/>
        <c:lblAlgn val="ctr"/>
        <c:lblOffset val="100"/>
        <c:noMultiLvlLbl val="0"/>
      </c:catAx>
      <c:valAx>
        <c:axId val="846178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368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652-E14A-4218-9538-36BDFF42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35D0-7DE9-4A5A-B682-7E77E699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19D6-3925-409E-80F7-6F816995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1477-31FE-4F2A-B34B-B65C4E4A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D703-4D58-421E-93A4-A1B2FD52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EF11-C1C8-4DD7-B74D-07363CA6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A8E-1120-41C2-ADF2-A361B787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720-70A6-4C29-9D73-A62EFACD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BB4-4567-4791-8151-EE2143FB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8BAE-4FB5-4653-AC04-3D65C1FB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B12-092D-4C56-BD1E-42A47A1D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3A21-AC80-45DA-B05C-05F473AB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D7EE5-187E-4A22-8BB5-8D23A89422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