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901189"/>
        <c:axId val="79182146"/>
      </c:barChart>
      <c:catAx>
        <c:axId val="149011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82146"/>
        <c:crosses val="autoZero"/>
        <c:auto val="1"/>
        <c:lblAlgn val="ctr"/>
        <c:lblOffset val="100"/>
        <c:noMultiLvlLbl val="0"/>
      </c:catAx>
      <c:valAx>
        <c:axId val="791821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9011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B765-DEA8-4C2C-AF2D-B4B534BDE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8E78-D019-4427-9921-5D37BCBE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EB07-B05E-4945-ABC4-68FF38991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7257-D2E5-4215-9ED4-F82E9EB89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4616-B871-413B-9A96-1248B313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DB7B-886B-4539-BCD9-B7BADD72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9998-4BF6-4BAB-B281-84DF10CC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2965-C971-4348-A050-82A675B0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4187-C10B-4723-84B5-F56B1FEA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E5D2-8C8A-46AA-A82B-91F93771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37B0-CAA7-427E-B194-9E4DD9A4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84D7-584A-460C-A8B1-47947C67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6CF6D1-527A-491C-A1A5-3696091202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