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362291"/>
        <c:axId val="88949445"/>
      </c:barChart>
      <c:catAx>
        <c:axId val="143622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49445"/>
        <c:crosses val="autoZero"/>
        <c:auto val="1"/>
        <c:lblAlgn val="ctr"/>
        <c:lblOffset val="100"/>
        <c:noMultiLvlLbl val="0"/>
      </c:catAx>
      <c:valAx>
        <c:axId val="889494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3622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C4D5-6687-46A7-BF6E-DC24B7F05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2E18-7F47-41E7-A928-7402FA68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858E-2804-4E00-A8FB-316EA64B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F350-81D2-4C3D-8598-F17183E3E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1452-DA77-4A5D-BBA0-97E25BA0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2055-4D8C-4F95-9E8A-22379500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7CDF-2DCF-4BBF-A482-100BCDC7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0B40-E631-4F9D-9CDC-FDA2FBE4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AF9C-09E4-4005-B5C7-59A0C664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3244-B4E0-459C-A450-DBE55838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323A-0F45-4571-B030-A312CB50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9919-3001-4CE3-8960-A0AD8574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51571-1490-4FC5-996A-0E0F1F20DB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