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696276"/>
        <c:axId val="75412255"/>
      </c:barChart>
      <c:catAx>
        <c:axId val="17696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412255"/>
        <c:crosses val="autoZero"/>
        <c:auto val="1"/>
        <c:lblAlgn val="ctr"/>
        <c:lblOffset val="100"/>
        <c:noMultiLvlLbl val="0"/>
      </c:catAx>
      <c:valAx>
        <c:axId val="754122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696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699-E47A-43AE-A819-8F88847D3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CB04-A6B0-4BBC-A4AE-C03AEE30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ED1B-0C87-4157-B121-33AF80CD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9A9A-2BFE-4391-9B67-C7213C01C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958-EC21-4452-8D3D-66788A05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358E-BD60-4422-A328-5779229C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9CE7-C9F2-4B7D-AB1B-D8BB6A88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B3B-04AD-4699-B645-F5EB590E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6563-9158-4A28-B0E8-C6598EE3E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E56C-06D5-4AA9-97CE-97D6FAFB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9E1A-96DF-4591-8C2F-C5E1B0BC8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EBF-8C42-4F24-A1C5-C862D3EF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C7F24B-2512-4F7B-8C09-CDC3A2ECE4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