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5640"/>
        <c:axId val="36617449"/>
      </c:barChart>
      <c:catAx>
        <c:axId val="1705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617449"/>
        <c:crosses val="autoZero"/>
        <c:auto val="1"/>
        <c:lblAlgn val="ctr"/>
        <c:lblOffset val="100"/>
        <c:noMultiLvlLbl val="0"/>
      </c:catAx>
      <c:valAx>
        <c:axId val="366174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5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57D-697C-41B7-99DB-53AE2E36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C343-5AA5-48CE-9253-6C5D9836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DFB1-1B34-4702-A137-16C05076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793-5502-4A04-BEE3-81753A77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A005-0E1D-472D-8169-48C530DD6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05E6-04F3-4E51-9F5E-CE160FAD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9DE-74D0-412C-964E-7E9ACA82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DE7-69B4-4AE6-9178-AE687C9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ED15-7687-44EC-95D7-E34EF9DF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F7B-6429-4800-A4F5-DEFC3C10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284-C204-4799-9FE2-964C1278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9A36-9AC7-43F2-9853-5DFECC6F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1CB2AB-011E-4FF5-85B1-66BEE6C1DA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