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12430"/>
        <c:axId val="78843610"/>
      </c:barChart>
      <c:catAx>
        <c:axId val="10812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43610"/>
        <c:crosses val="autoZero"/>
        <c:auto val="1"/>
        <c:lblAlgn val="ctr"/>
        <c:lblOffset val="100"/>
        <c:noMultiLvlLbl val="0"/>
      </c:catAx>
      <c:valAx>
        <c:axId val="78843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12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5A6-FFC0-4EE2-8429-933CF46B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FAE-D750-4432-8284-B9292503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28E-50FD-4BB7-8B50-BDE45C05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C39-D54A-49C1-B426-BE949D6A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859-476E-49E6-9C24-B9737129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0C1-E04D-4150-A103-75EE205B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851-51E9-4F2F-BB65-51307E75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50F-AEAD-4BC5-AED1-6E974772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E2D-74B2-4ECE-BF0C-346BE15E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1C7-7065-4029-A95A-B47C35F9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055-212E-46D3-940D-F9B819D3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271-BC1A-413C-AD56-6870103A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70209-A3A2-468A-9164-3E0AB46BDB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