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25415"/>
        <c:axId val="12365398"/>
      </c:barChart>
      <c:catAx>
        <c:axId val="19825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65398"/>
        <c:crosses val="autoZero"/>
        <c:auto val="1"/>
        <c:lblAlgn val="ctr"/>
        <c:lblOffset val="100"/>
        <c:noMultiLvlLbl val="0"/>
      </c:catAx>
      <c:valAx>
        <c:axId val="12365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25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8D3-94FD-4FE6-A0CD-FA2C3D5C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191-42C2-4F25-A878-2F83FFF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C9A-9617-4873-BA00-A0C45A5C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0F3-735D-496D-B3D5-9189502D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4B5-FECA-41BE-BCBB-3D3CFFA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CD2-A0FD-4BAA-A5B0-15C81E1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611-A320-4478-8B2F-A49A5CD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FD5-FCAD-4276-B7C3-7625ECC4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007-5455-4409-AB71-96C4CC4C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7B5-9E3D-469B-9320-587C725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137-34E7-4C7C-A24A-FD3FB3B8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B13-62A0-449A-9C22-5EE85A1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5CDEA-C5E8-4C77-9E10-FCCFEFD35B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