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1024378"/>
        <c:axId val="78445414"/>
      </c:barChart>
      <c:catAx>
        <c:axId val="7102437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445414"/>
        <c:crosses val="autoZero"/>
        <c:auto val="1"/>
        <c:lblAlgn val="ctr"/>
        <c:lblOffset val="100"/>
        <c:noMultiLvlLbl val="0"/>
      </c:catAx>
      <c:valAx>
        <c:axId val="7844541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02437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E4230-7D13-4223-B82A-4A3038C92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EA925-FAC9-4ECC-9E70-FD43D49BB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E59B5-1939-4B23-A246-C9090E5EA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766C5-836B-4B0F-BEFB-1C2182FD3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AED01-622B-4238-B60D-C97762257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31288-E011-4675-868D-5FE878E39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125F6-18E3-4738-95F7-99FD6DB2E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5B7BC-6445-40CF-85DD-9D9C7E643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213F8-B0E1-46C9-8DCB-A50363C12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44010-88AF-482A-8DC2-535126695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4998C-EB8A-4CCE-88C6-9E1F0CD20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191E9-480C-416A-BB48-2A790608E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7BC4C1-E082-4A2B-A5F3-5215881C208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