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73606"/>
        <c:axId val="75537894"/>
      </c:barChart>
      <c:catAx>
        <c:axId val="50473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37894"/>
        <c:crosses val="autoZero"/>
        <c:auto val="1"/>
        <c:lblAlgn val="ctr"/>
        <c:lblOffset val="100"/>
        <c:noMultiLvlLbl val="0"/>
      </c:catAx>
      <c:valAx>
        <c:axId val="75537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73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50F-96BD-4630-8588-61073368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C44-72A5-4FEC-AC1D-8FB303D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54A-F66F-4D70-97A9-13DE6370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B8C-6F28-46CD-8B73-684D297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C01-4524-44B7-93B2-B59470C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90B-FAE8-4434-8DDC-37B767C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9DB-CAF4-4964-BCA8-FD84FFE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E55-5B30-461F-9DA0-D9524E1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B7A-C396-4910-9B48-DC5330E7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15E-BB2A-4063-978F-DB3B69B1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1E1-8523-4877-8C97-A2FC824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6D1-0646-4618-B8E6-90EFCBD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5B8E8-2D53-4EA7-AD6B-238D4F386F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