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35116"/>
        <c:axId val="52075973"/>
      </c:barChart>
      <c:catAx>
        <c:axId val="46335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75973"/>
        <c:crosses val="autoZero"/>
        <c:auto val="1"/>
        <c:lblAlgn val="ctr"/>
        <c:lblOffset val="100"/>
        <c:noMultiLvlLbl val="0"/>
      </c:catAx>
      <c:valAx>
        <c:axId val="52075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35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27A-BC0B-44AF-8B59-F18EDCC1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8B4-3D6C-4EB8-AA86-7C7387E1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E68-E2EC-4755-8A08-9EEE3FB1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741-0848-4502-BA18-D903E93F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61D-4246-4BB8-B6EE-6AFE1B8C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745-BAA5-4972-B88A-93910803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267-F5BC-4E05-86E3-7A1B3818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929-148A-4C38-BA85-7F1F9F64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556-6B77-45AA-8481-38B09136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511-2E0B-48FC-8131-2943FC03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0DE-A5B6-48C2-ACA0-DD3E0AC0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197-0E02-4B41-83AB-0E5EA839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AE70B-E5B7-4FB7-848E-33E779924E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