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65411"/>
        <c:axId val="8540702"/>
      </c:barChart>
      <c:catAx>
        <c:axId val="4266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702"/>
        <c:crosses val="autoZero"/>
        <c:auto val="1"/>
        <c:lblAlgn val="ctr"/>
        <c:lblOffset val="100"/>
        <c:noMultiLvlLbl val="0"/>
      </c:catAx>
      <c:valAx>
        <c:axId val="8540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674-F848-4944-A091-4A92A7DE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71A-1AA3-47D9-AAC4-FFF5803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F9F-1355-4A3F-B601-F40B28CF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47B-9B99-4784-BE87-C0B2AFED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BED-4E0E-44D8-B4B6-4FFF2F53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D67-3E72-4A71-B8A0-82746454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45F-FBC3-41A6-BADF-A27BEA0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B01-8072-48A6-A1BA-A3BECAAD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974-9B56-4ECD-A27C-45EF121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21D-DD00-40B8-8B9E-9463939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425-8E1D-48C6-B017-A45F75F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561-8B85-4FF9-B2C8-776B991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94E3-C247-4481-AD61-DDBD8EEEBD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