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89197"/>
        <c:axId val="61925204"/>
      </c:barChart>
      <c:catAx>
        <c:axId val="718891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25204"/>
        <c:crosses val="autoZero"/>
        <c:auto val="1"/>
        <c:lblAlgn val="ctr"/>
        <c:lblOffset val="100"/>
        <c:noMultiLvlLbl val="0"/>
      </c:catAx>
      <c:valAx>
        <c:axId val="619252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891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EB9-7338-4D8E-BC1F-413073EE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3C0-4352-4DFD-A875-1BD9F40B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204-8C24-48BD-9E76-74D4C58D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D5A-93F0-4716-87A4-09266A5E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2DA1-6FB6-4E8E-95DE-484B0C8C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43A-7A4F-4CD1-9C31-A2811782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18D7-DD43-48B0-86DB-C5CCD9A0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45DE-7ADF-4199-97B2-7BD49A6C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6183-4BA1-4032-AEA1-840EEDF4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B49C-1614-4F8F-9ECF-40FC1CEF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482-5589-4840-AF21-82A568E3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F4B-6D1B-4C11-A68D-BE31BD93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2E7CB-4FC5-47DC-A502-98790A1043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