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72242"/>
        <c:axId val="54231623"/>
      </c:barChart>
      <c:catAx>
        <c:axId val="59372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31623"/>
        <c:crosses val="autoZero"/>
        <c:auto val="1"/>
        <c:lblAlgn val="ctr"/>
        <c:lblOffset val="100"/>
        <c:noMultiLvlLbl val="0"/>
      </c:catAx>
      <c:valAx>
        <c:axId val="54231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72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74D-CD89-4115-AEFB-B2FBC398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F63A-3EC0-4A98-93F7-F6CC13D7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ABE-CC85-4D3E-A4D1-74319E6C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B2C-6AB7-443A-A5BF-06074270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D27-0B02-4D38-B4F2-AEA6B2D4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7C6-68FE-45C5-9E6D-F9DA542A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317-5776-491E-BB87-9DED4B85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D59-606E-4022-89C6-37E5C55D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B5F-47F9-4F75-A455-D40BC7D1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D07-714F-4ED1-8BDF-9007A187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66C-A183-483E-B4E6-6C04BDCD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3E8-E731-4D66-8088-FD166B96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C3053-3177-4A24-95A3-B2D8902467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