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62171"/>
        <c:axId val="75520505"/>
      </c:barChart>
      <c:catAx>
        <c:axId val="144621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20505"/>
        <c:crosses val="autoZero"/>
        <c:auto val="1"/>
        <c:lblAlgn val="ctr"/>
        <c:lblOffset val="100"/>
        <c:noMultiLvlLbl val="0"/>
      </c:catAx>
      <c:valAx>
        <c:axId val="755205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621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F49D-DA0C-4556-A8A0-507B4E6F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10F6-99C0-468B-9DDC-A9D18F7D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1143-9370-4AAE-A154-17CC7D19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5728-844C-4F5F-9263-B58E99D2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A179-09BF-4B4A-A85A-15812D8E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118F-5DAE-4B79-B1B8-D6447ECC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10CA-F6A0-4F9A-A286-66FF0640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630-366D-4E31-A35C-99FB2C30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99F3-2A7E-4908-82EE-D8CE6E45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22B1-B3AB-4CD6-B22C-D4C3D73A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CB71-024F-4A96-BA66-03D69156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2C4D-6C03-43C8-9024-6427EC32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83957-9286-4A53-8A50-474D966FD8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