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34456"/>
        <c:axId val="33838222"/>
      </c:barChart>
      <c:catAx>
        <c:axId val="23934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38222"/>
        <c:crosses val="autoZero"/>
        <c:auto val="1"/>
        <c:lblAlgn val="ctr"/>
        <c:lblOffset val="100"/>
        <c:noMultiLvlLbl val="0"/>
      </c:catAx>
      <c:valAx>
        <c:axId val="33838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34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B41-E5C9-4414-847D-0BFA187C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14E-847C-47FD-B807-7247DAE5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E89-513D-4552-9E33-40FC02F7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FC7-40E9-44B6-9D11-3F17510B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3EF-F713-4713-8AB6-13C959E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3BC-531C-4559-B126-A12577EB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79A-95C9-4A85-97A3-A8848638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218-321F-4F36-84EA-1CF83B51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783-7571-474E-B6F7-E188E0A6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5CB-53E3-450B-A035-EEF064C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F96-0028-4552-88C2-E4F2F57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666-66F1-46BA-8046-4970FF1D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8D382-472A-47CE-A1A1-FEE7FC8185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