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32575"/>
        <c:axId val="98824533"/>
      </c:barChart>
      <c:catAx>
        <c:axId val="65832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24533"/>
        <c:crosses val="autoZero"/>
        <c:auto val="1"/>
        <c:lblAlgn val="ctr"/>
        <c:lblOffset val="100"/>
        <c:noMultiLvlLbl val="0"/>
      </c:catAx>
      <c:valAx>
        <c:axId val="98824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32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F30-65F0-4D19-9F89-E146716A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AF6C-853D-4A5B-945C-5F105EC4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F8C-0811-4D8A-9120-E60D3C85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359-8481-49CA-8222-D6C6CD12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E63-F57B-4B15-8782-07FF6F72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5A0-639E-42AE-99D5-EDE76DAD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B87-A580-4D63-8087-FD4575ED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600-0237-4882-991E-29333387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4B7-E32B-41AD-994F-82F6C7EC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174-DED4-414D-B8B9-2E0D2893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3BE-11B0-4233-B57B-B8E2C77B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D87-E6E7-4E08-9488-7A08099D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8ABAD-73B3-47C5-9508-6379AF7269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