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42692"/>
        <c:axId val="84409004"/>
      </c:barChart>
      <c:catAx>
        <c:axId val="90042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9004"/>
        <c:crosses val="autoZero"/>
        <c:auto val="1"/>
        <c:lblAlgn val="ctr"/>
        <c:lblOffset val="100"/>
        <c:noMultiLvlLbl val="0"/>
      </c:catAx>
      <c:valAx>
        <c:axId val="84409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42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765-9917-4CFF-B2BE-E7398815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395-F76A-402D-9F17-477F73A5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B27-B109-48F7-AA82-E4CA768F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37B-080A-4EEB-968D-97511D9B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D55-B25D-42F2-A091-90B46F6B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A06-465F-46E3-89FB-33195CE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110-FA6A-45C8-AE01-807540F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480-BF97-4FF3-B319-EA521B0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2AD-6CBD-4024-804E-65D905CA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EEF-3A35-46B7-9FB1-FB28316A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71A-253F-4846-90DC-32E4282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15B-31C6-44A3-B1B4-985533B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3FFCB-B05F-444A-98D6-111C1FB2D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