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15627"/>
        <c:axId val="70152700"/>
      </c:barChart>
      <c:catAx>
        <c:axId val="1941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52700"/>
        <c:crosses val="autoZero"/>
        <c:auto val="1"/>
        <c:lblAlgn val="ctr"/>
        <c:lblOffset val="100"/>
        <c:noMultiLvlLbl val="0"/>
      </c:catAx>
      <c:valAx>
        <c:axId val="70152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0E1-4A7F-4D2B-996C-297F3FE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944-3DD1-438B-BCC3-6F337A9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0C5-B647-4CB3-9529-33DD9BC0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33D-8637-4C23-8C77-D465A86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ED5-2557-4D79-B6D3-27D7453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FD7-4C0F-43E1-BB54-1F4CBF92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8A6-8EDC-4195-8706-4111FDEE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61F-C4C7-437E-9E68-56729C65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BE5-0053-48CB-9237-D7FE7036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1EB-B6AC-4C8A-B02B-5998E9A4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6DA-4B2F-4A0C-9A36-FAAE1C7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910-7339-43BE-8EC6-ECB6A62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C32F4-E7BB-479C-85CE-8BC329509F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