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7924369"/>
        <c:axId val="73064585"/>
      </c:barChart>
      <c:catAx>
        <c:axId val="9792436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064585"/>
        <c:crosses val="autoZero"/>
        <c:auto val="1"/>
        <c:lblAlgn val="ctr"/>
        <c:lblOffset val="100"/>
        <c:noMultiLvlLbl val="0"/>
      </c:catAx>
      <c:valAx>
        <c:axId val="7306458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92436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B7321-DAE8-4C8A-88F7-006C65184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000A7-AC2F-46C4-A61A-8A8430B80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FFA6F-6F44-40B6-B30D-11F21FC30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6C715-84B4-4A9A-B8B0-AAADB9CA8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38863-2333-4B74-ABF3-F6DC78E57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B71B9-FC96-451C-B301-15BE7DB4A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FF0EA-974E-40B4-962B-2F8E396A4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EC433-F353-48F7-AD5D-9FA9F0C9B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F7C25-E626-4C72-94A6-946216ED2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860C0-D305-4228-9ACD-2DAA18ACE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98533-7424-4348-9DCD-E47D6D201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31C53-E1BF-4A75-8D06-678085BBB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8287A8-0DB4-48AC-966C-6AFC32A9782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