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200678"/>
        <c:axId val="68844513"/>
      </c:barChart>
      <c:catAx>
        <c:axId val="872006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44513"/>
        <c:crosses val="autoZero"/>
        <c:auto val="1"/>
        <c:lblAlgn val="ctr"/>
        <c:lblOffset val="100"/>
        <c:noMultiLvlLbl val="0"/>
      </c:catAx>
      <c:valAx>
        <c:axId val="688445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006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A88F-1F4F-45D3-ABD9-C3D7B8EB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7A52-91C0-4C5C-98F2-F427F0DE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2B5E-BC40-43B6-B141-CACA0CC3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1112-8EBF-45A9-9AFB-A899561B8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24A9-6CAE-4198-8D11-E22CAA7E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A62E-1EE5-47A5-9721-124356E1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D49A-B721-45C6-A678-F8A2A337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310D-15B9-419D-818D-F40D6D6A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64DB-6A0E-4F62-9D64-E72A249B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E155-6E89-4ED4-87B9-EC15654D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15C1-ADE0-4C3F-89AE-2BEEF277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2B5F-7D1B-4561-8133-3590A613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BD2DD-0ADE-428E-A8A6-3D7DB3DB6A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