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81355"/>
        <c:axId val="53370649"/>
      </c:barChart>
      <c:catAx>
        <c:axId val="52081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70649"/>
        <c:crosses val="autoZero"/>
        <c:auto val="1"/>
        <c:lblAlgn val="ctr"/>
        <c:lblOffset val="100"/>
        <c:noMultiLvlLbl val="0"/>
      </c:catAx>
      <c:valAx>
        <c:axId val="53370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81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86E-29D0-46E6-B46E-EA809752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099-15C5-46FE-9600-5478814E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0B7-13DD-48C8-88F1-0A3F4892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D6B-0C57-4734-9739-DB16465A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689-F45A-4ABC-BE9C-8DF2D8A2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708-288E-4AF5-95F8-EA2E0739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B5F-FBB6-475C-92D0-EB1CAF9A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03A-540A-44BB-B811-B5609A3F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262-9911-45BA-93B3-929F703A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E78-6121-433C-B08E-98587CCF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8E7-5E5F-47A2-9458-724137E0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4D4-1C7E-4837-9790-09F10B2D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1A05F-2CA5-40AB-B0A3-A8A56B9212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