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20508"/>
        <c:axId val="52777516"/>
      </c:barChart>
      <c:catAx>
        <c:axId val="96220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77516"/>
        <c:crosses val="autoZero"/>
        <c:auto val="1"/>
        <c:lblAlgn val="ctr"/>
        <c:lblOffset val="100"/>
        <c:noMultiLvlLbl val="0"/>
      </c:catAx>
      <c:valAx>
        <c:axId val="52777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20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87B-E47D-4DEB-B17D-541A6C94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C1B-E807-4896-B673-D31382FA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57D-27BE-4786-9566-D5573929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EFD-C43B-459E-B120-EC26F5D2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DBB-1434-49BE-82F4-64E4FC6B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C9F-E29A-45BF-A9B8-51D52573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D97-0825-4749-85E3-E8F7BD78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0E3-6956-448D-AC1C-58C7FCDC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810-4490-433E-BDDB-63690670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551-0059-4550-9E4C-052FED61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8F8-887F-424A-91A7-DD2E0836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82C-3A14-45CE-9BD7-79CF6D7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74A51-4B89-4C5D-8542-ECA0BC332A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