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58333"/>
        <c:axId val="707519"/>
      </c:barChart>
      <c:catAx>
        <c:axId val="41958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519"/>
        <c:crosses val="autoZero"/>
        <c:auto val="1"/>
        <c:lblAlgn val="ctr"/>
        <c:lblOffset val="100"/>
        <c:noMultiLvlLbl val="0"/>
      </c:catAx>
      <c:valAx>
        <c:axId val="707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58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862-525B-4504-B895-BC904144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5CA-0EB9-4E16-97E0-0D1B6B88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593-E13A-4D06-B3BC-6ED1398F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846-51F1-4E2E-A8AA-61443EFD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C9E-4B24-4977-BA57-D649DF43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CBB-1A80-4375-9054-50011899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1EA-D79B-4CBE-B471-B2938028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434-83F2-4BF5-B150-3357B241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7FD-45C9-49D8-8DA7-2307B416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6E3-7D8F-48C2-807A-DB89A7CF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F80-C534-451A-B7B2-D4A2D001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476-FEE2-49CD-A130-C91EDDB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7D119-038E-4A51-89B1-16B59C5E1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